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png" ContentType="image/png"/>
  <Override PartName="/ppt/media/camera.wav" ContentType="audio/x-wav"/>
  <Override PartName="/ppt/media/image6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type.wav" ContentType="audio/x-wav"/>
  <Override PartName="/ppt/media/chimes.wav" ContentType="audio/x-wav"/>
  <Override PartName="/ppt/media/image8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FCD3-C83A-430D-AFDA-AF508B20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CBF-49BA-44D8-8FA7-93B30CF2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ED8-6FCA-41C1-A19D-980DCA67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D39-5CF6-4D41-AA4A-29471927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0AC8-AF87-4628-A549-6E07ED1C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5410-B222-43F4-816E-98BC90C2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9F5-381F-4A04-A7D9-FAB84375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ABE-B2CC-46DC-8E47-5070CAC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595-4CE4-4D64-89BB-BF7A6B60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8A9-46CA-4D4D-8F0E-D3DBA2B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4EDA-BFA2-4BE3-AD10-521AF5D8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8BAF-2D0C-4F79-BC4B-082D55D2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C1C-E2C4-46CD-A352-32E97CFD1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四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圆柱与圆锥的认识（一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457200" y="2286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练一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09480" y="10666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圆柱上下面是两个（     ）的圆形，圆锥的底面是一个（   ）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圆柱有（    ）个面是弯曲的，圆锥的侧面是一个（    ）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圆柱两个底面之间的距离叫圆柱的（    ），一个圆柱有（ 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从圆锥的（    ）到（         ）的距离是圆锥的高，一个圆锥有（    ）条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705720" y="838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410080" y="10666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4419720" y="1600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4572000" y="1981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581280" y="2057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657600" y="2514600"/>
            <a:ext cx="7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638680" y="2286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219320" y="35053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257800" y="35053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无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5943600" y="4038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底面圆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5181480" y="4191120"/>
            <a:ext cx="9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3657600" y="4038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553080" y="44956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1250280" y="228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宋体"/>
              </a:rPr>
              <a:t>下面哪些物体是圆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57200" y="1447920"/>
            <a:ext cx="8305920" cy="3047760"/>
            <a:chOff x="457200" y="1447920"/>
            <a:chExt cx="8305920" cy="3047760"/>
          </a:xfrm>
        </p:grpSpPr>
        <p:grpSp>
          <p:nvGrpSpPr>
            <p:cNvPr id="142" name="Group 5"/>
            <p:cNvGrpSpPr/>
            <p:nvPr/>
          </p:nvGrpSpPr>
          <p:grpSpPr>
            <a:xfrm>
              <a:off x="6934320" y="1447920"/>
              <a:ext cx="1828800" cy="2971800"/>
              <a:chOff x="6934320" y="1447920"/>
              <a:chExt cx="1828800" cy="2971800"/>
            </a:xfrm>
          </p:grpSpPr>
          <p:sp>
            <p:nvSpPr>
              <p:cNvPr id="143" name="AutoShape 6"/>
              <p:cNvSpPr/>
              <p:nvPr/>
            </p:nvSpPr>
            <p:spPr>
              <a:xfrm>
                <a:off x="6934320" y="1447920"/>
                <a:ext cx="1828800" cy="2971800"/>
              </a:xfrm>
              <a:prstGeom prst="can">
                <a:avLst>
                  <a:gd name="adj" fmla="val 24037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7"/>
              <p:cNvSpPr/>
              <p:nvPr/>
            </p:nvSpPr>
            <p:spPr>
              <a:xfrm>
                <a:off x="6934320" y="3733920"/>
                <a:ext cx="1828800" cy="685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8"/>
            <p:cNvGrpSpPr/>
            <p:nvPr/>
          </p:nvGrpSpPr>
          <p:grpSpPr>
            <a:xfrm>
              <a:off x="457200" y="2514600"/>
              <a:ext cx="2209680" cy="1981080"/>
              <a:chOff x="457200" y="2514600"/>
              <a:chExt cx="2209680" cy="1981080"/>
            </a:xfrm>
          </p:grpSpPr>
          <p:sp>
            <p:nvSpPr>
              <p:cNvPr id="146" name="Oval 9"/>
              <p:cNvSpPr/>
              <p:nvPr/>
            </p:nvSpPr>
            <p:spPr>
              <a:xfrm>
                <a:off x="457200" y="3809880"/>
                <a:ext cx="2209680" cy="685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0"/>
              <p:cNvSpPr/>
              <p:nvPr/>
            </p:nvSpPr>
            <p:spPr>
              <a:xfrm>
                <a:off x="838080" y="2514600"/>
                <a:ext cx="1371600" cy="4572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1"/>
              <p:cNvSpPr/>
              <p:nvPr/>
            </p:nvSpPr>
            <p:spPr>
              <a:xfrm flipV="1">
                <a:off x="457200" y="2743200"/>
                <a:ext cx="380880" cy="1447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2"/>
              <p:cNvSpPr/>
              <p:nvPr/>
            </p:nvSpPr>
            <p:spPr>
              <a:xfrm flipH="1" flipV="1">
                <a:off x="2209680" y="2743200"/>
                <a:ext cx="45720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13"/>
              <p:cNvSpPr/>
              <p:nvPr/>
            </p:nvSpPr>
            <p:spPr>
              <a:xfrm>
                <a:off x="609480" y="3886200"/>
                <a:ext cx="152640" cy="7632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4"/>
              <p:cNvSpPr/>
              <p:nvPr/>
            </p:nvSpPr>
            <p:spPr>
              <a:xfrm>
                <a:off x="914400" y="3809880"/>
                <a:ext cx="152280" cy="76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5"/>
              <p:cNvSpPr/>
              <p:nvPr/>
            </p:nvSpPr>
            <p:spPr>
              <a:xfrm>
                <a:off x="1219320" y="3733920"/>
                <a:ext cx="7596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6"/>
              <p:cNvSpPr/>
              <p:nvPr/>
            </p:nvSpPr>
            <p:spPr>
              <a:xfrm>
                <a:off x="1447920" y="373392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7"/>
              <p:cNvSpPr/>
              <p:nvPr/>
            </p:nvSpPr>
            <p:spPr>
              <a:xfrm>
                <a:off x="1752480" y="373392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8"/>
              <p:cNvSpPr/>
              <p:nvPr/>
            </p:nvSpPr>
            <p:spPr>
              <a:xfrm>
                <a:off x="2057400" y="3733920"/>
                <a:ext cx="152280" cy="228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9"/>
              <p:cNvSpPr/>
              <p:nvPr/>
            </p:nvSpPr>
            <p:spPr>
              <a:xfrm>
                <a:off x="2362320" y="388620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0"/>
            <p:cNvGrpSpPr/>
            <p:nvPr/>
          </p:nvGrpSpPr>
          <p:grpSpPr>
            <a:xfrm>
              <a:off x="2895480" y="1904760"/>
              <a:ext cx="1447920" cy="2514960"/>
              <a:chOff x="2895480" y="1904760"/>
              <a:chExt cx="1447920" cy="2514960"/>
            </a:xfrm>
          </p:grpSpPr>
          <p:sp>
            <p:nvSpPr>
              <p:cNvPr id="158" name="AutoShape 21"/>
              <p:cNvSpPr/>
              <p:nvPr/>
            </p:nvSpPr>
            <p:spPr>
              <a:xfrm rot="16200000">
                <a:off x="2361960" y="2437920"/>
                <a:ext cx="2514600" cy="1447920"/>
              </a:xfrm>
              <a:prstGeom prst="can">
                <a:avLst>
                  <a:gd name="adj" fmla="val 30833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2"/>
              <p:cNvSpPr/>
              <p:nvPr/>
            </p:nvSpPr>
            <p:spPr>
              <a:xfrm>
                <a:off x="3886200" y="1905120"/>
                <a:ext cx="457200" cy="2514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23"/>
            <p:cNvGrpSpPr/>
            <p:nvPr/>
          </p:nvGrpSpPr>
          <p:grpSpPr>
            <a:xfrm>
              <a:off x="4572000" y="1752120"/>
              <a:ext cx="2209680" cy="2514960"/>
              <a:chOff x="4572000" y="1752120"/>
              <a:chExt cx="2209680" cy="2514960"/>
            </a:xfrm>
          </p:grpSpPr>
          <p:sp>
            <p:nvSpPr>
              <p:cNvPr id="161" name="Oval 24"/>
              <p:cNvSpPr/>
              <p:nvPr/>
            </p:nvSpPr>
            <p:spPr>
              <a:xfrm flipV="1">
                <a:off x="4572000" y="1751760"/>
                <a:ext cx="2209680" cy="870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25"/>
              <p:cNvSpPr/>
              <p:nvPr/>
            </p:nvSpPr>
            <p:spPr>
              <a:xfrm flipV="1">
                <a:off x="4952880" y="3686040"/>
                <a:ext cx="1371600" cy="581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6"/>
              <p:cNvSpPr/>
              <p:nvPr/>
            </p:nvSpPr>
            <p:spPr>
              <a:xfrm>
                <a:off x="4572000" y="2139840"/>
                <a:ext cx="380880" cy="183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27"/>
              <p:cNvSpPr/>
              <p:nvPr/>
            </p:nvSpPr>
            <p:spPr>
              <a:xfrm flipH="1">
                <a:off x="6324480" y="2139840"/>
                <a:ext cx="457200" cy="18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28"/>
              <p:cNvSpPr/>
              <p:nvPr/>
            </p:nvSpPr>
            <p:spPr>
              <a:xfrm flipV="1">
                <a:off x="4952880" y="3788640"/>
                <a:ext cx="152640" cy="96840"/>
              </a:xfrm>
              <a:prstGeom prst="flowChartConnector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9"/>
              <p:cNvSpPr/>
              <p:nvPr/>
            </p:nvSpPr>
            <p:spPr>
              <a:xfrm flipV="1">
                <a:off x="5181480" y="3712320"/>
                <a:ext cx="152640" cy="9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0"/>
              <p:cNvSpPr/>
              <p:nvPr/>
            </p:nvSpPr>
            <p:spPr>
              <a:xfrm flipV="1">
                <a:off x="5334120" y="2656800"/>
                <a:ext cx="75960" cy="29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Oval 31"/>
              <p:cNvSpPr/>
              <p:nvPr/>
            </p:nvSpPr>
            <p:spPr>
              <a:xfrm flipV="1">
                <a:off x="5486400" y="3581280"/>
                <a:ext cx="15228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32"/>
              <p:cNvSpPr/>
              <p:nvPr/>
            </p:nvSpPr>
            <p:spPr>
              <a:xfrm flipV="1">
                <a:off x="5791320" y="3540240"/>
                <a:ext cx="15228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33"/>
              <p:cNvSpPr/>
              <p:nvPr/>
            </p:nvSpPr>
            <p:spPr>
              <a:xfrm flipV="1">
                <a:off x="6095880" y="3671280"/>
                <a:ext cx="152640" cy="2905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34"/>
              <p:cNvSpPr/>
              <p:nvPr/>
            </p:nvSpPr>
            <p:spPr>
              <a:xfrm flipV="1">
                <a:off x="6477120" y="2562120"/>
                <a:ext cx="152280" cy="192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Text Box 35"/>
          <p:cNvSpPr/>
          <p:nvPr/>
        </p:nvSpPr>
        <p:spPr>
          <a:xfrm>
            <a:off x="679320" y="4876920"/>
            <a:ext cx="8090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Times New Roman"/>
              </a:rPr>
              <a:t>(    )    (    )   (    )    (    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1100520" y="502920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7"/>
          <p:cNvSpPr/>
          <p:nvPr/>
        </p:nvSpPr>
        <p:spPr>
          <a:xfrm>
            <a:off x="3280680" y="510552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8"/>
          <p:cNvSpPr/>
          <p:nvPr/>
        </p:nvSpPr>
        <p:spPr>
          <a:xfrm>
            <a:off x="5367600" y="4952880"/>
            <a:ext cx="6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9"/>
          <p:cNvSpPr/>
          <p:nvPr/>
        </p:nvSpPr>
        <p:spPr>
          <a:xfrm>
            <a:off x="7548120" y="5029200"/>
            <a:ext cx="6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307360" cy="3073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371520" y="1148400"/>
            <a:ext cx="852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是圆柱形状的物体打上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√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是圆锥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形状的物体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打上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en-US" sz="4500" spc="-1" strike="noStrike">
                <a:solidFill>
                  <a:srgbClr val="000000"/>
                </a:solidFill>
                <a:latin typeface="黑体"/>
                <a:ea typeface="黑体"/>
              </a:rPr>
              <a:t>Δ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45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277920" y="223920"/>
            <a:ext cx="1996920" cy="703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2803680" y="3960720"/>
            <a:ext cx="75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083040" y="5446800"/>
            <a:ext cx="757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568760" y="5433840"/>
            <a:ext cx="757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黑体"/>
              </a:rPr>
              <a:t>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4448160" y="3973680"/>
            <a:ext cx="592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黑体"/>
              </a:rPr>
              <a:t>Δ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86440" y="5446800"/>
            <a:ext cx="592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00"/>
                </a:solidFill>
                <a:latin typeface="Arial"/>
                <a:ea typeface="黑体"/>
              </a:rPr>
              <a:t>Δ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矩形 3" descr=""/>
          <p:cNvPicPr/>
          <p:nvPr/>
        </p:nvPicPr>
        <p:blipFill>
          <a:blip r:embed="rId1"/>
          <a:stretch/>
        </p:blipFill>
        <p:spPr>
          <a:xfrm>
            <a:off x="2614680" y="2457360"/>
            <a:ext cx="366372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79280" y="1159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围绕所示的轴旋转各个平面图形，将得到怎样的立体图形？用线连一连。如果得到的图形是圆柱或圆锥，那么它的底面半径与平面图形的边长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"/>
          <p:cNvGrpSpPr/>
          <p:nvPr/>
        </p:nvGrpSpPr>
        <p:grpSpPr>
          <a:xfrm>
            <a:off x="1258920" y="2565360"/>
            <a:ext cx="504360" cy="2016000"/>
            <a:chOff x="1258920" y="2565360"/>
            <a:chExt cx="504360" cy="2016000"/>
          </a:xfrm>
        </p:grpSpPr>
        <p:sp>
          <p:nvSpPr>
            <p:cNvPr id="188" name="Line 6"/>
            <p:cNvSpPr/>
            <p:nvPr/>
          </p:nvSpPr>
          <p:spPr>
            <a:xfrm>
              <a:off x="1460520" y="2565360"/>
              <a:ext cx="0" cy="20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7"/>
            <p:cNvGrpSpPr/>
            <p:nvPr/>
          </p:nvGrpSpPr>
          <p:grpSpPr>
            <a:xfrm>
              <a:off x="1258920" y="2631960"/>
              <a:ext cx="504360" cy="1680480"/>
              <a:chOff x="1258920" y="2631960"/>
              <a:chExt cx="504360" cy="1680480"/>
            </a:xfrm>
          </p:grpSpPr>
          <p:sp>
            <p:nvSpPr>
              <p:cNvPr id="190" name="Rectangle 8"/>
              <p:cNvSpPr/>
              <p:nvPr/>
            </p:nvSpPr>
            <p:spPr>
              <a:xfrm>
                <a:off x="1460520" y="2901240"/>
                <a:ext cx="302760" cy="1411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Group 9"/>
              <p:cNvGrpSpPr/>
              <p:nvPr/>
            </p:nvGrpSpPr>
            <p:grpSpPr>
              <a:xfrm>
                <a:off x="1258920" y="2631960"/>
                <a:ext cx="352800" cy="201600"/>
                <a:chOff x="1258920" y="2631960"/>
                <a:chExt cx="352800" cy="201600"/>
              </a:xfrm>
            </p:grpSpPr>
            <p:sp>
              <p:nvSpPr>
                <p:cNvPr id="192" name="Freeform 10"/>
                <p:cNvSpPr/>
                <p:nvPr/>
              </p:nvSpPr>
              <p:spPr>
                <a:xfrm>
                  <a:off x="1258920" y="2631960"/>
                  <a:ext cx="352800" cy="2016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1"/>
                <p:cNvSpPr/>
                <p:nvPr/>
              </p:nvSpPr>
              <p:spPr>
                <a:xfrm flipV="1">
                  <a:off x="1561680" y="2631960"/>
                  <a:ext cx="49680" cy="6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4" name="Group 12"/>
          <p:cNvGrpSpPr/>
          <p:nvPr/>
        </p:nvGrpSpPr>
        <p:grpSpPr>
          <a:xfrm>
            <a:off x="2556000" y="2565360"/>
            <a:ext cx="1008000" cy="1943280"/>
            <a:chOff x="2556000" y="2565360"/>
            <a:chExt cx="1008000" cy="1943280"/>
          </a:xfrm>
        </p:grpSpPr>
        <p:sp>
          <p:nvSpPr>
            <p:cNvPr id="195" name="Line 13"/>
            <p:cNvSpPr/>
            <p:nvPr/>
          </p:nvSpPr>
          <p:spPr>
            <a:xfrm>
              <a:off x="2733840" y="2565360"/>
              <a:ext cx="0" cy="194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4"/>
            <p:cNvSpPr/>
            <p:nvPr/>
          </p:nvSpPr>
          <p:spPr>
            <a:xfrm>
              <a:off x="2733840" y="2889360"/>
              <a:ext cx="830160" cy="1360440"/>
            </a:xfrm>
            <a:prstGeom prst="rtTriangl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15"/>
            <p:cNvGrpSpPr/>
            <p:nvPr/>
          </p:nvGrpSpPr>
          <p:grpSpPr>
            <a:xfrm>
              <a:off x="2556000" y="2629440"/>
              <a:ext cx="414360" cy="194400"/>
              <a:chOff x="2556000" y="2629440"/>
              <a:chExt cx="414360" cy="194400"/>
            </a:xfrm>
          </p:grpSpPr>
          <p:sp>
            <p:nvSpPr>
              <p:cNvPr id="198" name="Freeform 16"/>
              <p:cNvSpPr/>
              <p:nvPr/>
            </p:nvSpPr>
            <p:spPr>
              <a:xfrm>
                <a:off x="2556000" y="2629800"/>
                <a:ext cx="414360" cy="19404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 flipV="1">
                <a:off x="2911680" y="2629440"/>
                <a:ext cx="586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18"/>
          <p:cNvGrpSpPr/>
          <p:nvPr/>
        </p:nvGrpSpPr>
        <p:grpSpPr>
          <a:xfrm>
            <a:off x="3995640" y="2492280"/>
            <a:ext cx="865080" cy="2016360"/>
            <a:chOff x="3995640" y="2492280"/>
            <a:chExt cx="865080" cy="2016360"/>
          </a:xfrm>
        </p:grpSpPr>
        <p:sp>
          <p:nvSpPr>
            <p:cNvPr id="201" name="Line 19"/>
            <p:cNvSpPr/>
            <p:nvPr/>
          </p:nvSpPr>
          <p:spPr>
            <a:xfrm>
              <a:off x="4198680" y="2492280"/>
              <a:ext cx="0" cy="201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4198320" y="2963160"/>
              <a:ext cx="662400" cy="1343880"/>
              <a:chOff x="4198320" y="2963160"/>
              <a:chExt cx="662400" cy="1343880"/>
            </a:xfrm>
          </p:grpSpPr>
          <p:sp>
            <p:nvSpPr>
              <p:cNvPr id="203" name="Line 21"/>
              <p:cNvSpPr/>
              <p:nvPr/>
            </p:nvSpPr>
            <p:spPr>
              <a:xfrm>
                <a:off x="4198680" y="2963160"/>
                <a:ext cx="35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2"/>
              <p:cNvSpPr/>
              <p:nvPr/>
            </p:nvSpPr>
            <p:spPr>
              <a:xfrm>
                <a:off x="4555440" y="2963160"/>
                <a:ext cx="305280" cy="1343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3"/>
              <p:cNvSpPr/>
              <p:nvPr/>
            </p:nvSpPr>
            <p:spPr>
              <a:xfrm flipH="1">
                <a:off x="4198320" y="4307040"/>
                <a:ext cx="662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24"/>
            <p:cNvGrpSpPr/>
            <p:nvPr/>
          </p:nvGrpSpPr>
          <p:grpSpPr>
            <a:xfrm>
              <a:off x="3995640" y="2693520"/>
              <a:ext cx="355680" cy="201600"/>
              <a:chOff x="3995640" y="2693520"/>
              <a:chExt cx="355680" cy="201600"/>
            </a:xfrm>
          </p:grpSpPr>
          <p:sp>
            <p:nvSpPr>
              <p:cNvPr id="207" name="Freeform 25"/>
              <p:cNvSpPr/>
              <p:nvPr/>
            </p:nvSpPr>
            <p:spPr>
              <a:xfrm>
                <a:off x="3995640" y="2693520"/>
                <a:ext cx="355680" cy="20160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26"/>
              <p:cNvSpPr/>
              <p:nvPr/>
            </p:nvSpPr>
            <p:spPr>
              <a:xfrm flipV="1">
                <a:off x="4300920" y="2693520"/>
                <a:ext cx="50400" cy="66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Group 30"/>
          <p:cNvGrpSpPr/>
          <p:nvPr/>
        </p:nvGrpSpPr>
        <p:grpSpPr>
          <a:xfrm>
            <a:off x="5769000" y="2565360"/>
            <a:ext cx="387360" cy="201600"/>
            <a:chOff x="5769000" y="2565360"/>
            <a:chExt cx="387360" cy="201600"/>
          </a:xfrm>
        </p:grpSpPr>
        <p:sp>
          <p:nvSpPr>
            <p:cNvPr id="210" name="Freeform 31"/>
            <p:cNvSpPr/>
            <p:nvPr/>
          </p:nvSpPr>
          <p:spPr>
            <a:xfrm>
              <a:off x="5769000" y="2565360"/>
              <a:ext cx="387360" cy="201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 flipV="1">
              <a:off x="6101280" y="2565360"/>
              <a:ext cx="54720" cy="66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33"/>
          <p:cNvGrpSpPr/>
          <p:nvPr/>
        </p:nvGrpSpPr>
        <p:grpSpPr>
          <a:xfrm>
            <a:off x="6948360" y="2565000"/>
            <a:ext cx="647640" cy="1872000"/>
            <a:chOff x="6948360" y="2565000"/>
            <a:chExt cx="647640" cy="1872000"/>
          </a:xfrm>
        </p:grpSpPr>
        <p:sp>
          <p:nvSpPr>
            <p:cNvPr id="213" name="Line 34"/>
            <p:cNvSpPr/>
            <p:nvPr/>
          </p:nvSpPr>
          <p:spPr>
            <a:xfrm>
              <a:off x="7109280" y="2565360"/>
              <a:ext cx="0" cy="187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35"/>
            <p:cNvSpPr/>
            <p:nvPr/>
          </p:nvSpPr>
          <p:spPr>
            <a:xfrm>
              <a:off x="7218000" y="2823120"/>
              <a:ext cx="378000" cy="141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36"/>
            <p:cNvGrpSpPr/>
            <p:nvPr/>
          </p:nvGrpSpPr>
          <p:grpSpPr>
            <a:xfrm>
              <a:off x="6948360" y="2565000"/>
              <a:ext cx="378000" cy="193680"/>
              <a:chOff x="6948360" y="2565000"/>
              <a:chExt cx="378000" cy="193680"/>
            </a:xfrm>
          </p:grpSpPr>
          <p:sp>
            <p:nvSpPr>
              <p:cNvPr id="216" name="Freeform 37"/>
              <p:cNvSpPr/>
              <p:nvPr/>
            </p:nvSpPr>
            <p:spPr>
              <a:xfrm>
                <a:off x="6948360" y="2565360"/>
                <a:ext cx="378000" cy="193320"/>
              </a:xfrm>
              <a:prstGeom prst="pie">
                <a:avLst/>
              </a:pr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38"/>
              <p:cNvSpPr/>
              <p:nvPr/>
            </p:nvSpPr>
            <p:spPr>
              <a:xfrm flipV="1">
                <a:off x="7272720" y="2565000"/>
                <a:ext cx="53280" cy="6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Group 48"/>
          <p:cNvGrpSpPr/>
          <p:nvPr/>
        </p:nvGrpSpPr>
        <p:grpSpPr>
          <a:xfrm>
            <a:off x="1042920" y="5157720"/>
            <a:ext cx="936720" cy="1293480"/>
            <a:chOff x="1042920" y="5157720"/>
            <a:chExt cx="936720" cy="1293480"/>
          </a:xfrm>
        </p:grpSpPr>
        <p:grpSp>
          <p:nvGrpSpPr>
            <p:cNvPr id="219" name="Group 43"/>
            <p:cNvGrpSpPr/>
            <p:nvPr/>
          </p:nvGrpSpPr>
          <p:grpSpPr>
            <a:xfrm>
              <a:off x="1042920" y="5157720"/>
              <a:ext cx="936720" cy="268920"/>
              <a:chOff x="1042920" y="5157720"/>
              <a:chExt cx="936720" cy="268920"/>
            </a:xfrm>
          </p:grpSpPr>
          <p:sp>
            <p:nvSpPr>
              <p:cNvPr id="220" name="Oval 39"/>
              <p:cNvSpPr/>
              <p:nvPr/>
            </p:nvSpPr>
            <p:spPr>
              <a:xfrm>
                <a:off x="1042920" y="5157720"/>
                <a:ext cx="936720" cy="268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40"/>
              <p:cNvSpPr/>
              <p:nvPr/>
            </p:nvSpPr>
            <p:spPr>
              <a:xfrm>
                <a:off x="1407600" y="5264640"/>
                <a:ext cx="207360" cy="5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Line 41"/>
            <p:cNvSpPr/>
            <p:nvPr/>
          </p:nvSpPr>
          <p:spPr>
            <a:xfrm>
              <a:off x="1042920" y="5264640"/>
              <a:ext cx="0" cy="102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2"/>
            <p:cNvSpPr/>
            <p:nvPr/>
          </p:nvSpPr>
          <p:spPr>
            <a:xfrm>
              <a:off x="1979640" y="5319360"/>
              <a:ext cx="0" cy="102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44"/>
            <p:cNvGrpSpPr/>
            <p:nvPr/>
          </p:nvGrpSpPr>
          <p:grpSpPr>
            <a:xfrm>
              <a:off x="1042920" y="6182280"/>
              <a:ext cx="936720" cy="268920"/>
              <a:chOff x="1042920" y="6182280"/>
              <a:chExt cx="936720" cy="268920"/>
            </a:xfrm>
          </p:grpSpPr>
          <p:sp>
            <p:nvSpPr>
              <p:cNvPr id="225" name="Oval 45"/>
              <p:cNvSpPr/>
              <p:nvPr/>
            </p:nvSpPr>
            <p:spPr>
              <a:xfrm>
                <a:off x="1042920" y="6182280"/>
                <a:ext cx="936720" cy="268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46"/>
              <p:cNvSpPr/>
              <p:nvPr/>
            </p:nvSpPr>
            <p:spPr>
              <a:xfrm>
                <a:off x="1407600" y="6289200"/>
                <a:ext cx="207360" cy="54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7" name="Line 52"/>
          <p:cNvSpPr/>
          <p:nvPr/>
        </p:nvSpPr>
        <p:spPr>
          <a:xfrm>
            <a:off x="5940360" y="2492280"/>
            <a:ext cx="0" cy="20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0"/>
          <p:cNvGrpSpPr/>
          <p:nvPr/>
        </p:nvGrpSpPr>
        <p:grpSpPr>
          <a:xfrm>
            <a:off x="2411280" y="5445000"/>
            <a:ext cx="936720" cy="863640"/>
            <a:chOff x="2411280" y="5445000"/>
            <a:chExt cx="936720" cy="863640"/>
          </a:xfrm>
        </p:grpSpPr>
        <p:sp>
          <p:nvSpPr>
            <p:cNvPr id="229" name="Oval 49"/>
            <p:cNvSpPr/>
            <p:nvPr/>
          </p:nvSpPr>
          <p:spPr>
            <a:xfrm>
              <a:off x="2411280" y="5445000"/>
              <a:ext cx="936720" cy="863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3"/>
            <p:cNvSpPr/>
            <p:nvPr/>
          </p:nvSpPr>
          <p:spPr>
            <a:xfrm>
              <a:off x="2411280" y="5848560"/>
              <a:ext cx="936720" cy="115200"/>
            </a:xfrm>
            <a:prstGeom prst="ellipse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54"/>
            <p:cNvSpPr/>
            <p:nvPr/>
          </p:nvSpPr>
          <p:spPr>
            <a:xfrm>
              <a:off x="2821680" y="5445000"/>
              <a:ext cx="57600" cy="863640"/>
            </a:xfrm>
            <a:prstGeom prst="ellipse">
              <a:avLst/>
            </a:pr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59"/>
          <p:cNvGrpSpPr/>
          <p:nvPr/>
        </p:nvGrpSpPr>
        <p:grpSpPr>
          <a:xfrm>
            <a:off x="3922560" y="5157720"/>
            <a:ext cx="865440" cy="1295280"/>
            <a:chOff x="3922560" y="5157720"/>
            <a:chExt cx="865440" cy="1295280"/>
          </a:xfrm>
        </p:grpSpPr>
        <p:sp>
          <p:nvSpPr>
            <p:cNvPr id="233" name="Oval 55"/>
            <p:cNvSpPr/>
            <p:nvPr/>
          </p:nvSpPr>
          <p:spPr>
            <a:xfrm>
              <a:off x="3922560" y="5157720"/>
              <a:ext cx="865440" cy="409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6"/>
            <p:cNvSpPr/>
            <p:nvPr/>
          </p:nvSpPr>
          <p:spPr>
            <a:xfrm>
              <a:off x="3922560" y="6044040"/>
              <a:ext cx="865440" cy="408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57"/>
            <p:cNvSpPr/>
            <p:nvPr/>
          </p:nvSpPr>
          <p:spPr>
            <a:xfrm>
              <a:off x="3922560" y="5362200"/>
              <a:ext cx="0" cy="9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8"/>
            <p:cNvSpPr/>
            <p:nvPr/>
          </p:nvSpPr>
          <p:spPr>
            <a:xfrm>
              <a:off x="4788000" y="5362200"/>
              <a:ext cx="0" cy="95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69"/>
          <p:cNvGrpSpPr/>
          <p:nvPr/>
        </p:nvGrpSpPr>
        <p:grpSpPr>
          <a:xfrm>
            <a:off x="5435640" y="5157720"/>
            <a:ext cx="936720" cy="1295280"/>
            <a:chOff x="5435640" y="5157720"/>
            <a:chExt cx="936720" cy="1295280"/>
          </a:xfrm>
        </p:grpSpPr>
        <p:sp>
          <p:nvSpPr>
            <p:cNvPr id="238" name="Oval 61"/>
            <p:cNvSpPr/>
            <p:nvPr/>
          </p:nvSpPr>
          <p:spPr>
            <a:xfrm>
              <a:off x="5435640" y="6145560"/>
              <a:ext cx="936720" cy="307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62"/>
            <p:cNvSpPr/>
            <p:nvPr/>
          </p:nvSpPr>
          <p:spPr>
            <a:xfrm flipV="1">
              <a:off x="5435640" y="5157720"/>
              <a:ext cx="499320" cy="111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3"/>
            <p:cNvSpPr/>
            <p:nvPr/>
          </p:nvSpPr>
          <p:spPr>
            <a:xfrm>
              <a:off x="5934960" y="5157720"/>
              <a:ext cx="437040" cy="1110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68"/>
          <p:cNvGrpSpPr/>
          <p:nvPr/>
        </p:nvGrpSpPr>
        <p:grpSpPr>
          <a:xfrm>
            <a:off x="7093080" y="5157720"/>
            <a:ext cx="1079280" cy="1296720"/>
            <a:chOff x="7093080" y="5157720"/>
            <a:chExt cx="1079280" cy="1296720"/>
          </a:xfrm>
        </p:grpSpPr>
        <p:sp>
          <p:nvSpPr>
            <p:cNvPr id="242" name="Oval 64"/>
            <p:cNvSpPr/>
            <p:nvPr/>
          </p:nvSpPr>
          <p:spPr>
            <a:xfrm>
              <a:off x="7093080" y="6130080"/>
              <a:ext cx="1079280" cy="324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65"/>
            <p:cNvSpPr/>
            <p:nvPr/>
          </p:nvSpPr>
          <p:spPr>
            <a:xfrm>
              <a:off x="7409160" y="5157720"/>
              <a:ext cx="507960" cy="128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6"/>
            <p:cNvSpPr/>
            <p:nvPr/>
          </p:nvSpPr>
          <p:spPr>
            <a:xfrm flipH="1">
              <a:off x="7093080" y="5222160"/>
              <a:ext cx="316080" cy="110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67"/>
            <p:cNvSpPr/>
            <p:nvPr/>
          </p:nvSpPr>
          <p:spPr>
            <a:xfrm>
              <a:off x="7917480" y="5222160"/>
              <a:ext cx="254880" cy="110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Line 70"/>
          <p:cNvSpPr/>
          <p:nvPr/>
        </p:nvSpPr>
        <p:spPr>
          <a:xfrm>
            <a:off x="1547640" y="4365720"/>
            <a:ext cx="2448000" cy="792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1"/>
          <p:cNvSpPr/>
          <p:nvPr/>
        </p:nvSpPr>
        <p:spPr>
          <a:xfrm>
            <a:off x="3132000" y="4365720"/>
            <a:ext cx="2654280" cy="920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2"/>
          <p:cNvSpPr/>
          <p:nvPr/>
        </p:nvSpPr>
        <p:spPr>
          <a:xfrm>
            <a:off x="4572000" y="4429080"/>
            <a:ext cx="2736720" cy="728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73"/>
          <p:cNvSpPr/>
          <p:nvPr/>
        </p:nvSpPr>
        <p:spPr>
          <a:xfrm flipH="1">
            <a:off x="2842920" y="4292640"/>
            <a:ext cx="2808360" cy="108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4"/>
          <p:cNvSpPr/>
          <p:nvPr/>
        </p:nvSpPr>
        <p:spPr>
          <a:xfrm flipH="1">
            <a:off x="1763640" y="4437000"/>
            <a:ext cx="5184720" cy="647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饼形 2"/>
          <p:cNvSpPr/>
          <p:nvPr/>
        </p:nvSpPr>
        <p:spPr>
          <a:xfrm>
            <a:off x="5265720" y="3049560"/>
            <a:ext cx="1308240" cy="1157400"/>
          </a:xfrm>
          <a:prstGeom prst="pi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68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得到的是圆柱，底面半径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面图形（长方形）的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9"/>
          <p:cNvSpPr/>
          <p:nvPr/>
        </p:nvSpPr>
        <p:spPr>
          <a:xfrm>
            <a:off x="539640" y="321300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得到的是圆锥，底面半径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面图形（三角形）的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1447920" y="685800"/>
            <a:ext cx="464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762120" y="21337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柱是由两个相等的圆面和一个曲面围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838080" y="33526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圆锥是由一个圆面和曲面围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4" descr="小男孩.png"/>
          <p:cNvPicPr/>
          <p:nvPr/>
        </p:nvPicPr>
        <p:blipFill>
          <a:blip r:embed="rId1"/>
          <a:stretch/>
        </p:blipFill>
        <p:spPr>
          <a:xfrm>
            <a:off x="304920" y="4343400"/>
            <a:ext cx="1371600" cy="2293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矩形 4" descr=""/>
          <p:cNvPicPr/>
          <p:nvPr/>
        </p:nvPicPr>
        <p:blipFill>
          <a:blip r:embed="rId1"/>
          <a:stretch/>
        </p:blipFill>
        <p:spPr>
          <a:xfrm>
            <a:off x="3144960" y="2378160"/>
            <a:ext cx="297468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440" y="1212840"/>
            <a:ext cx="8613720" cy="33037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767240" y="304920"/>
            <a:ext cx="423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说下面哪些物体的形状是圆柱，哪些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形状是圆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90920" y="28195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819520" y="449568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572000" y="441972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191120" y="3200400"/>
            <a:ext cx="10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924680" y="39625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/>
          <p:cNvSpPr/>
          <p:nvPr/>
        </p:nvSpPr>
        <p:spPr>
          <a:xfrm>
            <a:off x="1547640" y="765000"/>
            <a:ext cx="1656000" cy="1440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427640" y="765000"/>
            <a:ext cx="3168720" cy="14400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2124000" y="3716280"/>
            <a:ext cx="1441440" cy="194472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5580000" y="3500280"/>
            <a:ext cx="1513080" cy="2089080"/>
            <a:chOff x="5580000" y="3500280"/>
            <a:chExt cx="1513080" cy="2089080"/>
          </a:xfrm>
        </p:grpSpPr>
        <p:sp>
          <p:nvSpPr>
            <p:cNvPr id="54" name="Oval 7"/>
            <p:cNvSpPr/>
            <p:nvPr/>
          </p:nvSpPr>
          <p:spPr>
            <a:xfrm>
              <a:off x="5580000" y="5028480"/>
              <a:ext cx="1512000" cy="56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9"/>
            <p:cNvSpPr/>
            <p:nvPr/>
          </p:nvSpPr>
          <p:spPr>
            <a:xfrm flipH="1">
              <a:off x="5580000" y="3500280"/>
              <a:ext cx="781920" cy="178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6361920" y="3500280"/>
              <a:ext cx="731160" cy="18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3"/>
          <p:cNvSpPr/>
          <p:nvPr/>
        </p:nvSpPr>
        <p:spPr>
          <a:xfrm>
            <a:off x="1476360" y="227664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5105520" y="2286000"/>
            <a:ext cx="14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2319480" y="56754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圆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824440" y="5661000"/>
            <a:ext cx="10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圆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7" descr="dglxasset[2]"/>
          <p:cNvPicPr/>
          <p:nvPr/>
        </p:nvPicPr>
        <p:blipFill>
          <a:blip r:embed="rId1"/>
          <a:stretch/>
        </p:blipFill>
        <p:spPr>
          <a:xfrm>
            <a:off x="0" y="5614920"/>
            <a:ext cx="1509840" cy="1243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"/>
          <p:cNvGrpSpPr/>
          <p:nvPr/>
        </p:nvGrpSpPr>
        <p:grpSpPr>
          <a:xfrm>
            <a:off x="1763640" y="476280"/>
            <a:ext cx="2879640" cy="4321080"/>
            <a:chOff x="1763640" y="476280"/>
            <a:chExt cx="2879640" cy="4321080"/>
          </a:xfrm>
        </p:grpSpPr>
        <p:sp>
          <p:nvSpPr>
            <p:cNvPr id="63" name="Oval 4"/>
            <p:cNvSpPr/>
            <p:nvPr/>
          </p:nvSpPr>
          <p:spPr>
            <a:xfrm>
              <a:off x="1763640" y="476280"/>
              <a:ext cx="2879640" cy="1224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5"/>
            <p:cNvSpPr/>
            <p:nvPr/>
          </p:nvSpPr>
          <p:spPr>
            <a:xfrm>
              <a:off x="1763640" y="3573360"/>
              <a:ext cx="2879640" cy="1224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6"/>
            <p:cNvSpPr/>
            <p:nvPr/>
          </p:nvSpPr>
          <p:spPr>
            <a:xfrm>
              <a:off x="4643280" y="1123920"/>
              <a:ext cx="0" cy="3097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1763640" y="1123920"/>
              <a:ext cx="0" cy="309708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8"/>
          <p:cNvSpPr/>
          <p:nvPr/>
        </p:nvSpPr>
        <p:spPr>
          <a:xfrm>
            <a:off x="4716360" y="1797120"/>
            <a:ext cx="408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仔细观察圆柱，它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dglxasset[4]"/>
          <p:cNvPicPr/>
          <p:nvPr/>
        </p:nvPicPr>
        <p:blipFill>
          <a:blip r:embed="rId1"/>
          <a:stretch/>
        </p:blipFill>
        <p:spPr>
          <a:xfrm>
            <a:off x="7093080" y="2565360"/>
            <a:ext cx="1733400" cy="182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26"/>
          <p:cNvSpPr/>
          <p:nvPr/>
        </p:nvSpPr>
        <p:spPr>
          <a:xfrm>
            <a:off x="2658960" y="476280"/>
            <a:ext cx="2880000" cy="1224000"/>
          </a:xfrm>
          <a:prstGeom prst="ellipse">
            <a:avLst/>
          </a:prstGeom>
          <a:solidFill>
            <a:srgbClr val="bbe0e3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7"/>
          <p:cNvSpPr/>
          <p:nvPr/>
        </p:nvSpPr>
        <p:spPr>
          <a:xfrm>
            <a:off x="2658960" y="3573360"/>
            <a:ext cx="2880000" cy="1224000"/>
          </a:xfrm>
          <a:prstGeom prst="ellipse">
            <a:avLst/>
          </a:prstGeom>
          <a:solidFill>
            <a:srgbClr val="bbe0e3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58960" y="476280"/>
            <a:ext cx="2880000" cy="1224000"/>
          </a:xfrm>
          <a:prstGeom prst="ellipse">
            <a:avLst/>
          </a:prstGeom>
          <a:solidFill>
            <a:srgbClr val="ffff00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2658960" y="3573360"/>
            <a:ext cx="2880000" cy="1224000"/>
          </a:xfrm>
          <a:prstGeom prst="ellipse">
            <a:avLst/>
          </a:prstGeom>
          <a:solidFill>
            <a:srgbClr val="ffff00">
              <a:alpha val="63000"/>
            </a:srgbClr>
          </a:solidFill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5538960" y="1123920"/>
            <a:ext cx="0" cy="3097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658960" y="1123920"/>
            <a:ext cx="0" cy="309708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2658960" y="112392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2658960" y="4148280"/>
            <a:ext cx="288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4098960" y="1123920"/>
            <a:ext cx="0" cy="302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551400" y="54756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3594240" y="40752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169160" y="10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415332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8"/>
          <p:cNvSpPr/>
          <p:nvPr/>
        </p:nvSpPr>
        <p:spPr>
          <a:xfrm>
            <a:off x="5538960" y="1123920"/>
            <a:ext cx="6476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5538960" y="4148280"/>
            <a:ext cx="6476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0"/>
          <p:cNvSpPr/>
          <p:nvPr/>
        </p:nvSpPr>
        <p:spPr>
          <a:xfrm flipV="1">
            <a:off x="5970600" y="1123920"/>
            <a:ext cx="0" cy="122400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1"/>
          <p:cNvSpPr/>
          <p:nvPr/>
        </p:nvSpPr>
        <p:spPr>
          <a:xfrm>
            <a:off x="5970600" y="2995560"/>
            <a:ext cx="0" cy="1152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610240" y="2289240"/>
            <a:ext cx="6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2801880" y="241920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324000" y="495288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圆柱的上、下两个面叫做圆柱的（ 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成圆柱的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曲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叫做圆柱的（       ），圆柱两个底面之间的距离叫做圆柱的（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5867280" y="4952880"/>
            <a:ext cx="10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底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5257800" y="5410080"/>
            <a:ext cx="10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侧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5334120" y="5791320"/>
            <a:ext cx="6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4" descr="dglxasset[2]"/>
          <p:cNvPicPr/>
          <p:nvPr/>
        </p:nvPicPr>
        <p:blipFill>
          <a:blip r:embed="rId1"/>
          <a:stretch/>
        </p:blipFill>
        <p:spPr>
          <a:xfrm>
            <a:off x="7691400" y="0"/>
            <a:ext cx="1452600" cy="21589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3"/>
          <p:cNvGrpSpPr/>
          <p:nvPr/>
        </p:nvGrpSpPr>
        <p:grpSpPr>
          <a:xfrm>
            <a:off x="468360" y="404280"/>
            <a:ext cx="7781760" cy="3101040"/>
            <a:chOff x="468360" y="404280"/>
            <a:chExt cx="7781760" cy="3101040"/>
          </a:xfrm>
        </p:grpSpPr>
        <p:grpSp>
          <p:nvGrpSpPr>
            <p:cNvPr id="94" name="Group 22"/>
            <p:cNvGrpSpPr/>
            <p:nvPr/>
          </p:nvGrpSpPr>
          <p:grpSpPr>
            <a:xfrm>
              <a:off x="468360" y="404280"/>
              <a:ext cx="7416720" cy="3101040"/>
              <a:chOff x="468360" y="404280"/>
              <a:chExt cx="7416720" cy="3101040"/>
            </a:xfrm>
          </p:grpSpPr>
          <p:grpSp>
            <p:nvGrpSpPr>
              <p:cNvPr id="95" name="Group 19"/>
              <p:cNvGrpSpPr/>
              <p:nvPr/>
            </p:nvGrpSpPr>
            <p:grpSpPr>
              <a:xfrm>
                <a:off x="468360" y="404280"/>
                <a:ext cx="2756880" cy="3101040"/>
                <a:chOff x="468360" y="404280"/>
                <a:chExt cx="2756880" cy="3101040"/>
              </a:xfrm>
            </p:grpSpPr>
            <p:sp>
              <p:nvSpPr>
                <p:cNvPr id="96" name="Oval 2"/>
                <p:cNvSpPr/>
                <p:nvPr/>
              </p:nvSpPr>
              <p:spPr>
                <a:xfrm>
                  <a:off x="506160" y="2449440"/>
                  <a:ext cx="2718000" cy="1028520"/>
                </a:xfrm>
                <a:prstGeom prst="ellipse">
                  <a:avLst/>
                </a:prstGeom>
                <a:solidFill>
                  <a:srgbClr val="66cc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" name="Group 11"/>
                <p:cNvGrpSpPr/>
                <p:nvPr/>
              </p:nvGrpSpPr>
              <p:grpSpPr>
                <a:xfrm>
                  <a:off x="468360" y="404280"/>
                  <a:ext cx="2756880" cy="3101040"/>
                  <a:chOff x="468360" y="404280"/>
                  <a:chExt cx="2756880" cy="3101040"/>
                </a:xfrm>
              </p:grpSpPr>
              <p:sp>
                <p:nvSpPr>
                  <p:cNvPr id="98" name="Line 12"/>
                  <p:cNvSpPr/>
                  <p:nvPr/>
                </p:nvSpPr>
                <p:spPr>
                  <a:xfrm flipH="1" flipV="1">
                    <a:off x="1901880" y="404280"/>
                    <a:ext cx="1303200" cy="242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Line 13"/>
                  <p:cNvSpPr/>
                  <p:nvPr/>
                </p:nvSpPr>
                <p:spPr>
                  <a:xfrm flipV="1">
                    <a:off x="468360" y="404640"/>
                    <a:ext cx="1433520" cy="2579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Arc 14"/>
                  <p:cNvSpPr/>
                  <p:nvPr/>
                </p:nvSpPr>
                <p:spPr>
                  <a:xfrm rot="16200000">
                    <a:off x="1607400" y="1365480"/>
                    <a:ext cx="522360" cy="270180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Arc 15"/>
                  <p:cNvSpPr/>
                  <p:nvPr/>
                </p:nvSpPr>
                <p:spPr>
                  <a:xfrm rot="5468400">
                    <a:off x="1549440" y="1807920"/>
                    <a:ext cx="603000" cy="273672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" name="Text Box 20"/>
              <p:cNvSpPr/>
              <p:nvPr/>
            </p:nvSpPr>
            <p:spPr>
              <a:xfrm>
                <a:off x="3203640" y="765000"/>
                <a:ext cx="4681440" cy="13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仔细观察圆锥，它有什么特点？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" name="Picture 21" descr="dglxasset[4]"/>
            <p:cNvPicPr/>
            <p:nvPr/>
          </p:nvPicPr>
          <p:blipFill>
            <a:blip r:embed="rId1"/>
            <a:stretch/>
          </p:blipFill>
          <p:spPr>
            <a:xfrm>
              <a:off x="6516720" y="1557360"/>
              <a:ext cx="1733400" cy="18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24"/>
          <p:cNvSpPr/>
          <p:nvPr/>
        </p:nvSpPr>
        <p:spPr>
          <a:xfrm>
            <a:off x="0" y="40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0" y="3860640"/>
            <a:ext cx="9288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助用手中的圆锥材料，先自己看一看、 摸一摸、比一比、量一量、画一画，你能发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小组合作交流、总结出你们的发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2"/>
          <p:cNvSpPr/>
          <p:nvPr/>
        </p:nvSpPr>
        <p:spPr>
          <a:xfrm>
            <a:off x="2806560" y="3238560"/>
            <a:ext cx="2718000" cy="1028520"/>
          </a:xfrm>
          <a:prstGeom prst="ellipse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"/>
          <p:cNvSpPr/>
          <p:nvPr/>
        </p:nvSpPr>
        <p:spPr>
          <a:xfrm>
            <a:off x="4199040" y="1206360"/>
            <a:ext cx="17280" cy="251460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340080" y="558720"/>
            <a:ext cx="1714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顶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000680" y="3340080"/>
            <a:ext cx="1752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底面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9440" y="2476440"/>
            <a:ext cx="5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 flipV="1">
            <a:off x="4406760" y="25142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788000" y="2133720"/>
            <a:ext cx="1447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宋体"/>
              </a:rPr>
              <a:t>侧面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2801880" y="3741840"/>
            <a:ext cx="2697120" cy="20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813840" y="3255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2768760" y="1193400"/>
            <a:ext cx="2756880" cy="3101040"/>
            <a:chOff x="2768760" y="1193400"/>
            <a:chExt cx="2756880" cy="3101040"/>
          </a:xfrm>
        </p:grpSpPr>
        <p:sp>
          <p:nvSpPr>
            <p:cNvPr id="116" name="Line 12"/>
            <p:cNvSpPr/>
            <p:nvPr/>
          </p:nvSpPr>
          <p:spPr>
            <a:xfrm flipH="1" flipV="1">
              <a:off x="4202280" y="1193400"/>
              <a:ext cx="1303200" cy="242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 flipV="1">
              <a:off x="2768760" y="1193760"/>
              <a:ext cx="1433520" cy="257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rc 14"/>
            <p:cNvSpPr/>
            <p:nvPr/>
          </p:nvSpPr>
          <p:spPr>
            <a:xfrm rot="16200000">
              <a:off x="3907800" y="2154600"/>
              <a:ext cx="522360" cy="2701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5"/>
            <p:cNvSpPr/>
            <p:nvPr/>
          </p:nvSpPr>
          <p:spPr>
            <a:xfrm rot="5468400">
              <a:off x="3849840" y="2597040"/>
              <a:ext cx="603000" cy="2736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utoShape 16"/>
          <p:cNvSpPr/>
          <p:nvPr/>
        </p:nvSpPr>
        <p:spPr>
          <a:xfrm>
            <a:off x="4165560" y="370836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>
            <a:off x="4165560" y="1155600"/>
            <a:ext cx="88920" cy="88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0" y="472428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圆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曲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圆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顶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底面圆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距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圆锥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圆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有一条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5760" y="981000"/>
          <a:ext cx="8216640" cy="4568760"/>
        </p:xfrm>
        <a:graphic>
          <a:graphicData uri="http://schemas.openxmlformats.org/drawingml/2006/table">
            <a:tbl>
              <a:tblPr/>
              <a:tblGrid>
                <a:gridCol w="1163520"/>
                <a:gridCol w="3529080"/>
                <a:gridCol w="3524040"/>
              </a:tblGrid>
              <a:tr h="718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圆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      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圆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底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两个完全相同的圆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个顶点，一个圆形底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侧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个侧面，是曲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个侧面，是曲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圆柱两底面之间的距离，有无数条高，长度都相等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从圆锥顶点到底面圆心的距离，只有一条高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矩形 3" descr=""/>
          <p:cNvPicPr/>
          <p:nvPr/>
        </p:nvPicPr>
        <p:blipFill>
          <a:blip r:embed="rId1"/>
          <a:stretch/>
        </p:blipFill>
        <p:spPr>
          <a:xfrm>
            <a:off x="2693880" y="2530440"/>
            <a:ext cx="3664080" cy="113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09:25:10Z</dcterms:created>
  <dc:creator/>
  <dc:description/>
  <cp:keywords/>
  <dc:language>en-US</dc:language>
  <cp:lastModifiedBy/>
  <dcterms:modified xsi:type="dcterms:W3CDTF">2017-12-21T14:12:22Z</dcterms:modified>
  <cp:revision>1</cp:revision>
  <dc:subject/>
  <dc:title/>
</cp:coreProperties>
</file>